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5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drumroll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72F1-DF26-4987-850C-BBC2CFF65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5334-9876-4467-9CC0-4E6BAF174D7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EF76-1B60-48C8-9F4B-CA21157BC52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ACFA-9F1F-4D6E-9A49-BDE63B2CA293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A2EB-FBF7-4C05-8900-8F8DDAF000E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AE2B-D7D8-4237-8507-7301A44AB185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927-2A38-46F3-95A5-DD968C0F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8E4-68AA-4858-B646-8E0CC007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730-5AC9-4760-A091-0FD0DBF3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86E-8907-4384-B75F-FE8D2DF5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8559-01F9-4F30-A579-02946E9A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4403-8320-442F-9005-CBCEB471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D2DC-4BD7-412E-B47A-519EE2D4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3101-5FBF-4424-996E-E3C761CA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88F3-6956-4D22-8EA6-44F93392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F6A9-3938-41A2-9A55-E532D729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396D-83A5-4730-9501-4AEC8400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732-3C41-4FA0-BE5A-4454BB2E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1CEA-9DB6-43D6-A2A9-8B4AD242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A422-A2B9-4496-975E-E4DC0AB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2B7F-37C5-4F9C-96DE-07F7C020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749E-A50B-43DD-8718-C05D3EDE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31B9-9D9A-494D-B696-F28780CF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FF0-0312-4766-AFE6-11ABA413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7F8-74C8-4EF0-ADDA-2AD67D48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887-2428-46A9-B5D9-FE705834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CB4-1652-410D-8AB4-79FE04C2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B0F-A13B-45C7-9D84-5395FD0B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D56-4D79-46C7-B8FA-2DEADD12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18A-BD0E-4729-99B0-F929B4B1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9F3F-E9F9-4BB5-8D8F-61FD0F459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3A32-431E-4FA2-AC43-A079954B46B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Tahoma"/>
              </a:rPr>
              <a:t>POETRY TERM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English I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1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great exaggeration to emphasize strong feeling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91320" y="3124080"/>
            <a:ext cx="2286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I will love you until all the seas go dry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C:\WINDOWS\DESKTOP\Roger\desert.jpg"/>
          <p:cNvPicPr/>
          <p:nvPr/>
        </p:nvPicPr>
        <p:blipFill>
          <a:blip r:embed="rId1"/>
          <a:stretch/>
        </p:blipFill>
        <p:spPr>
          <a:xfrm>
            <a:off x="1066680" y="3440160"/>
            <a:ext cx="4191120" cy="2808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Human characteristics are given to non-human animals, objects, or idea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My stereo walked out of my car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Picture 5" descr="C:\WINDOWS\DESKTOP\Roger\car_theft.jpg"/>
          <p:cNvPicPr/>
          <p:nvPr/>
        </p:nvPicPr>
        <p:blipFill>
          <a:blip r:embed="rId1"/>
          <a:stretch/>
        </p:blipFill>
        <p:spPr>
          <a:xfrm>
            <a:off x="5257800" y="2666880"/>
            <a:ext cx="2928960" cy="386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Tahoma"/>
              </a:rPr>
              <a:t>A part stands for the whole or vice versa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Tahoma"/>
              </a:rPr>
              <a:t>hands</a:t>
            </a: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 that created the work of art were masterful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6" descr="C:\WINDOWS\DESKTOP\Roger\hands.jpg"/>
          <p:cNvPicPr/>
          <p:nvPr/>
        </p:nvPicPr>
        <p:blipFill>
          <a:blip r:embed="rId1"/>
          <a:stretch/>
        </p:blipFill>
        <p:spPr>
          <a:xfrm>
            <a:off x="4800600" y="2913120"/>
            <a:ext cx="38577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Hints given to the reader of what is to com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alwart hero was doomed to suffer the destined end of his day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5" descr="C:\WINDOWS\DESKTOP\Roger\beowulf.gif"/>
          <p:cNvPicPr/>
          <p:nvPr/>
        </p:nvPicPr>
        <p:blipFill>
          <a:blip r:embed="rId1"/>
          <a:stretch/>
        </p:blipFill>
        <p:spPr>
          <a:xfrm>
            <a:off x="4800600" y="3352680"/>
            <a:ext cx="38098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The use of concrete details that appeal to the five senses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105520" y="350496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Cold, wet leaves floating on moss-colored water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68" name="Picture 5" descr="C:\WINDOWS\DESKTOP\Roger\leaves.jpg"/>
          <p:cNvPicPr/>
          <p:nvPr/>
        </p:nvPicPr>
        <p:blipFill>
          <a:blip r:embed="rId3"/>
          <a:stretch/>
        </p:blipFill>
        <p:spPr>
          <a:xfrm>
            <a:off x="914400" y="304812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69" name="POND CREATURES 1.WAV" descr=""/>
          <p:cNvPicPr/>
          <p:nvPr/>
        </p:nvPicPr>
        <p:blipFill>
          <a:blip r:embed="rId4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reference to a historical figure, place, or even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133720" y="1295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contrast between what is said and what is meant.  Also, when things turn out different than what is expected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828800" y="5335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1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 treacherous instrument is in thy hand, unbated and envenomed.  The foul practice has turned itself on me.”  Laert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828800" y="5335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bard4.avi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The overall atmosphere or prevailing emotional feeling of a work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1981080" y="762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It was the best of times, it was the worst of time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1981080" y="4572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9" name="Picture 5" descr="C:\WINDOWS\DESKTOP\Roger\Guillotine.jpg"/>
          <p:cNvPicPr/>
          <p:nvPr/>
        </p:nvPicPr>
        <p:blipFill>
          <a:blip r:embed="rId1"/>
          <a:stretch/>
        </p:blipFill>
        <p:spPr>
          <a:xfrm>
            <a:off x="4724280" y="320040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A seemingly self-contradictory statement that still is true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486400" y="304812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The more we learn, the less we know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84" name="Picture 5" descr="C:\WINDOWS\DESKTOP\Roger\idiot.gif"/>
          <p:cNvPicPr/>
          <p:nvPr/>
        </p:nvPicPr>
        <p:blipFill>
          <a:blip r:embed="rId3"/>
          <a:stretch/>
        </p:blipFill>
        <p:spPr>
          <a:xfrm>
            <a:off x="1295280" y="3048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4"/>
          <a:stretch/>
        </p:blipFill>
        <p:spPr>
          <a:xfrm>
            <a:off x="4114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99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e clasps the crag with crooked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hand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ose to the sun in lonely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lands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from “The Eagle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219320" y="533520"/>
            <a:ext cx="6933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8" name="Picture 5" descr="C:\WINDOWS\DESKTOP\Roger\eagle.jpg"/>
          <p:cNvPicPr/>
          <p:nvPr/>
        </p:nvPicPr>
        <p:blipFill>
          <a:blip r:embed="rId1"/>
          <a:stretch/>
        </p:blipFill>
        <p:spPr>
          <a:xfrm>
            <a:off x="5334120" y="2514600"/>
            <a:ext cx="3111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repetition of identical sounds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ithi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 line of poetr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shall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fl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across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sea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ol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the palm of your han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n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eter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an hour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 slant rhyme or half rhyme occurs when the vowel sounds are not quite identical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4267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The teams competed in a David and Goliath struggl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133720" y="76212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Picture 6" descr="H:\Roger\goliath.jpg"/>
          <p:cNvPicPr/>
          <p:nvPr/>
        </p:nvPicPr>
        <p:blipFill>
          <a:blip r:embed="rId3"/>
          <a:stretch/>
        </p:blipFill>
        <p:spPr>
          <a:xfrm>
            <a:off x="5257800" y="2514600"/>
            <a:ext cx="276876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TAPS PLAYED ON A BUGLE.WAV" descr=""/>
          <p:cNvPicPr/>
          <p:nvPr/>
        </p:nvPicPr>
        <p:blipFill>
          <a:blip r:embed="rId4"/>
          <a:stretch/>
        </p:blipFill>
        <p:spPr>
          <a:xfrm>
            <a:off x="4419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d on that cheek and o’er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r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 mind at peace with all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el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repeating of a sound, word, phrase, or more in a given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1981080" y="6094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WINDOWS\DESKTOP\Roger\horsegallop.jpg"/>
          <p:cNvPicPr/>
          <p:nvPr/>
        </p:nvPicPr>
        <p:blipFill>
          <a:blip r:embed="rId2"/>
          <a:stretch/>
        </p:blipFill>
        <p:spPr>
          <a:xfrm>
            <a:off x="2971800" y="3886200"/>
            <a:ext cx="3657600" cy="2522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sprang to the stirrup, and Jarvis, and h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Derrick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we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all three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1981080" y="3808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80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The repetition of consonant sounds at the beginnings of word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:\WINDOWS\DESKTOP\Roger\ship.jpg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,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 flew the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hip”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78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783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The repetition of similar vowel sounds followed by different consonant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358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. . .that hoard, and sl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p, and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, and know not me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3" name="Picture 5" descr="C:\WINDOWS\DESKTOP\Roger\eagle-eating-binladen001.jpg"/>
          <p:cNvPicPr/>
          <p:nvPr/>
        </p:nvPicPr>
        <p:blipFill>
          <a:blip r:embed="rId1"/>
          <a:stretch/>
        </p:blipFill>
        <p:spPr>
          <a:xfrm>
            <a:off x="4495680" y="30481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41911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662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he repetition of consonant sounds that are preceded by different vowel sou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181120" y="312408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Wherever we go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Silence w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i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a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like dew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19" name="Picture 5" descr="C:\WINDOWS\DESKTOP\Roger\Silence.jpg"/>
          <p:cNvPicPr/>
          <p:nvPr/>
        </p:nvPicPr>
        <p:blipFill>
          <a:blip r:embed="rId3"/>
          <a:stretch/>
        </p:blipFill>
        <p:spPr>
          <a:xfrm>
            <a:off x="1601640" y="2895480"/>
            <a:ext cx="2791080" cy="3505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4"/>
          <a:stretch/>
        </p:blipFill>
        <p:spPr>
          <a:xfrm>
            <a:off x="3733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238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A broad comparison between two basically different things that have some points in comm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3047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lind eyes could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Tahoma"/>
              </a:rPr>
              <a:t>blaze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like meteors”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6" name="Picture 6" descr="C:\WINDOWS\DESKTOP\Roger\meteors.jpg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5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omething concrete, such as an object, action, character, or scene that stands for something abstract such as a concept or an idea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o not go gentle into that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good nigh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age, Rage against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dying of the light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2" name="Picture 5" descr="C:\WINDOWS\DESKTOP\Roger\peir11.jpg"/>
          <p:cNvPicPr/>
          <p:nvPr/>
        </p:nvPicPr>
        <p:blipFill>
          <a:blip r:embed="rId3"/>
          <a:stretch/>
        </p:blipFill>
        <p:spPr>
          <a:xfrm>
            <a:off x="1600200" y="4275000"/>
            <a:ext cx="6095880" cy="2116440"/>
          </a:xfrm>
          <a:prstGeom prst="rect">
            <a:avLst/>
          </a:prstGeom>
          <a:ln w="0">
            <a:noFill/>
          </a:ln>
        </p:spPr>
      </p:pic>
      <p:sp>
        <p:nvSpPr>
          <p:cNvPr id="233" name="Comment 6"/>
          <p:cNvSpPr/>
          <p:nvPr/>
        </p:nvSpPr>
        <p:spPr>
          <a:xfrm>
            <a:off x="23760" y="15840"/>
            <a:ext cx="292392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hrases are symbols th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 for death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main idea or underlying meaning of a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286000" y="9144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3760" y="266688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on’t judge a man until you’ve walked a mile in his shoe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209680" y="533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5" descr="C:\WINDOWS\DESKTOP\Roger\9-01_Mockingbird.jpg"/>
          <p:cNvPicPr/>
          <p:nvPr/>
        </p:nvPicPr>
        <p:blipFill>
          <a:blip r:embed="rId1"/>
          <a:stretch/>
        </p:blipFill>
        <p:spPr>
          <a:xfrm>
            <a:off x="685800" y="271296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239" name="MYSTERIOUS 3.WAV" descr=""/>
          <p:cNvPicPr/>
          <p:nvPr/>
        </p:nvPicPr>
        <p:blipFill>
          <a:blip r:embed="rId2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 pair of rhymed verse lines that contain a complete thought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762120" y="762120"/>
            <a:ext cx="670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while I think on thee, dea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 losses are restor’d and sorrow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762120" y="762120"/>
            <a:ext cx="6705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4" name="Picture 5" descr="C:\WINDOWS\DESKTOP\Roger\friends.jpg"/>
          <p:cNvPicPr/>
          <p:nvPr/>
        </p:nvPicPr>
        <p:blipFill>
          <a:blip r:embed="rId1"/>
          <a:stretch/>
        </p:blipFill>
        <p:spPr>
          <a:xfrm>
            <a:off x="2209680" y="40384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29714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ahoma"/>
              </a:rPr>
              <a:t>Aspirations toward space are not new.  Consider the worm that becomes a butterfly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8" descr="H:\Roger\butterfly.jpg"/>
          <p:cNvPicPr/>
          <p:nvPr/>
        </p:nvPicPr>
        <p:blipFill>
          <a:blip r:embed="rId1"/>
          <a:srcRect l="1695" t="5169" r="5157" b="4313"/>
          <a:stretch/>
        </p:blipFill>
        <p:spPr>
          <a:xfrm>
            <a:off x="5176800" y="2743200"/>
            <a:ext cx="31608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SNAKE CHARMER DANCE.WAV" descr=""/>
          <p:cNvPicPr/>
          <p:nvPr/>
        </p:nvPicPr>
        <p:blipFill>
          <a:blip r:embed="rId2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ahoma"/>
              </a:rPr>
              <a:t>A direct comparison between two basically different things.  A simile is introduced by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My love is like a red, red ros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71620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An implied comparison between two basically different things.  Is not introduced with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274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is eyes were daggers that cut right through me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0" name="Picture 5" descr="C:\WINDOWS\DESKTOP\Roger\angryface.jpg"/>
          <p:cNvPicPr/>
          <p:nvPr/>
        </p:nvPicPr>
        <p:blipFill>
          <a:blip r:embed="rId3"/>
          <a:stretch/>
        </p:blipFill>
        <p:spPr>
          <a:xfrm>
            <a:off x="5334120" y="2819520"/>
            <a:ext cx="2377800" cy="3581280"/>
          </a:xfrm>
          <a:prstGeom prst="rect">
            <a:avLst/>
          </a:prstGeom>
          <a:ln w="0">
            <a:noFill/>
          </a:ln>
        </p:spPr>
      </p:pic>
      <p:pic>
        <p:nvPicPr>
          <p:cNvPr id="141" name="BACH - PHANTOM OF THE OPERA.WAV" descr=""/>
          <p:cNvPicPr/>
          <p:nvPr/>
        </p:nvPicPr>
        <p:blipFill>
          <a:blip r:embed="rId4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54:09Z</dcterms:created>
  <dc:creator>NNTC</dc:creator>
  <dc:description/>
  <dc:language>en-US</dc:language>
  <cp:lastModifiedBy>cvarner</cp:lastModifiedBy>
  <dcterms:modified xsi:type="dcterms:W3CDTF">2009-05-15T02:11:31Z</dcterms:modified>
  <cp:revision>47</cp:revision>
  <dc:subject/>
  <dc:title>POETIC TERMS</dc:title>
</cp:coreProperties>
</file>